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B9B2-8DEC-40EE-97FB-90516D1D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EEBB-F544-484C-866D-B7D4C2E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4BB2-0FEF-495A-A4C1-BA4D205D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71A3-4119-4C74-944C-7AE0CD7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7128-4431-48D8-9D9D-613F7253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B4A-BC84-41BE-BB04-54D8B9B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058-B24D-404A-8D83-AA5A65F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F46-09D6-4E7F-9E8F-08D36E60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5DA7-91C0-4AA1-9035-F672997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46AD-80A9-4FEC-B3BE-DE0CA11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7EE-1FBB-4074-801A-3C8B420B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4B9B-A560-404A-A646-99C8502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E40-3240-4919-96F4-76E02D0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97C8-D0C0-42D9-A283-3477564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8D2-C1A7-46D6-8EA1-B35905AA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30C7-CDD5-438D-86C8-C0D68CF6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BEB9-8468-417C-A980-FB1D8B9B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7DDC-6C01-42C2-9BFC-45E299D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4BEE-689A-4FC6-8851-32B1BE7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A601-EEBD-440B-AE38-B4A13B0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B1CF-1EC5-4E45-901D-19CA52AF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328F-52D8-4338-A553-4E81555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28A5-A94A-4C91-B6FC-DC21BFC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BF0B-48EC-4DDD-BFA5-87D8B01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6450-058C-42C0-BC55-322E9281C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E0C2-A70A-4B84-86EE-5AEE081EB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a       </a:t>
            </a: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ădina </a:t>
            </a: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Zoologică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5660640"/>
            <a:ext cx="1843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inguin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aton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798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ngur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şarpe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3230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veriţ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laming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efant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9128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up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248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rs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10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igr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122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aimuţ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1293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iraf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3673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rsul po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093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2:51:42Z</dcterms:created>
  <dc:creator>DORYN</dc:creator>
  <dc:description/>
  <dc:language>en-US</dc:language>
  <cp:lastModifiedBy>DORYN</cp:lastModifiedBy>
  <dcterms:modified xsi:type="dcterms:W3CDTF">2007-03-26T16:46:49Z</dcterms:modified>
  <cp:revision>3</cp:revision>
  <dc:subject/>
  <dc:title>La        Grădina  Zoologică</dc:title>
</cp:coreProperties>
</file>